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11A-E54A-4D1A-B3A9-47229870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3A7-4263-46A6-8C51-1D7A4E2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C16-B058-4D4A-8AA0-112D2761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9E7-2ADE-4D09-BB05-75084F81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80D4-7BAB-40BA-AF9E-473FB75C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F73D-865A-4DB7-A483-136B7D3B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A26F-7273-4336-A1D2-2A20B800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0887-848B-4258-90A1-961E488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39F5-BBF6-4F62-A998-ABBC0209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278-8CFE-47F2-8C35-E3672720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492-1AB7-4B28-B729-BAD1D34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01A-BCC4-4D85-B4A1-C1B2E0E7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39B-82F0-4CA1-8724-197E7655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598A-81F2-447A-9FE2-0B701048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A89-309E-438E-8FC4-57D325A7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331A-DE1B-4ADD-9155-E65FF5B9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D35-5B32-4751-9E91-C5F25D5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16E-5CB4-4F0B-B6DB-5E1365F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660-4D4C-4CD6-BF12-F455C3C6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AE5-599F-4256-93D6-0A5F8D92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797-39D4-4AD5-AAFB-1365772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392-0451-4C18-A024-F3EDEA0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566-9D9A-4326-8788-421C571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092-3195-4485-BC6D-A4618E20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0AC8-BA12-4748-A839-178812EB6A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C91-6AA4-4597-847B-81D0ED340F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LIFE OF CHRIST, PART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0, LESSON 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KE10:1 - 12: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05-1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0A5D-A6DC-4BBA-9470-835488550B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parables, Jesus compares the kingdom of God to a mustard seed and then to ye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le on His way to Jerusalem, Jesus teaches in the the villages and cities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one asked Jesus “Lord are there few who are saved?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answered “strive to enter the narrow door for many will seek to enter and not be abl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039-C4A7-4BE2-84FA-5DE460D143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teaches that once the door of opportunity (for salvation) is closed, it will be too late, there will be weeping and gnashing of tee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will come from all over and sit down in the kingdom of God.  Abraham, Isaac and Jacob will be t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is not fooled by the Pharisees’ warning to leave the area because Herod wanted to kill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282-75A9-48CF-8C93-A1F86D8422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fearlessly, states that He will complete His work there and then be on His w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laments; “O Jerusalem, Jerusalem, the one who kills the prophets and stones those who are sent to her!  How often I wanted to gather your children together, as a hen gathers her brood under her wings, but you were not willing.”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k 13:3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87F-10D6-41F7-B5CF-91B23AA03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AST OF DEDIC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OHN 10:22-3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ime of this feast was late Decemb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s walking in Solomon’s porch when the Jews asked Him, “How long do You keep us in doubt? If You are the Christ tell us plainly.”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answer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told you but you don’t belie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not of My sheep; My sheep hear my voice, I know them, they follow 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one can snatch them out of  My Father’s h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and My Father are 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7C2-2432-47A3-9880-F9C0927D1E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AST OF DEDIC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OHN 10:22-3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Jews take up stones to stone Jes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wants to know which of the many good works He has done that would cause them to stone H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ir answer; “Not for a good work, but for blasphemy and making Yourself God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 replies, “if I do not do the works of My Father, do not believe Me and if I do, believe the works…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eek again to seize Him, but He escap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E0C-D289-45FF-9BB3-88F6E1FFC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ITUDES ABOUT MATERIAL THING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22-3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worry abou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life, what you will e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body, what you will w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fe is more than food, the body more than clot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doubt, God knows your 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orld runs after these things, but seek the kingdom of God and these things will be added to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CD9-5453-4E4A-8206-AF27D31D0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TTITUDE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contd.)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32-37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be afraid, little flock, the Father will give you the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ll w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have and give to the p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y prepared, gird your waist and keep your lamp bu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essed are those servants whom the Lord finds watching for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AE7-967E-47F7-A66E-E650C5BB2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AITHFUL SERVANT &amp; EVIL SERVANT</a:t>
            </a:r>
            <a:br>
              <a:rPr sz="32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 A PARABLE)</a:t>
            </a:r>
            <a:br>
              <a:rPr sz="28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2:40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ster will make his faithful and wise servant ruler over his househo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essed is that servant whom the master finds doing his du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 if that servant becomes lax, begins to beat the other servants even gets drunk, woe to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1BD-D1C4-4612-B5F3-35DAF83532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HRIST BRINGS DIVIS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UKE 12:49-5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came to send fire upon the 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d to undergo a baptism of suff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ould cause division not pe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106-5BD3-4295-8938-6CB6690347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HRIST BRINGS DIVIS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UKE 12:49-5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one house: Three against two, father against son, mother against daughter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ultitudes could discern the weather but not the signs of the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peace with your advers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164-5764-4E93-9FE2-B0D8A138F7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PENT OR PERIS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sus was told about some Galileans slain by Pi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e they worse sinners than oth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ower of Siloam fell on eighteen and killed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e they worse sinners than othe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AA2-67DD-46A5-92B5-E20EF1C5E9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PENT OR PERISH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less people repent they will all likewise perish regardless of how they s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fig tree had not produced fruit for three years and the vinedresser was told to “cut it dow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vinedresser responded “let me dig around it and fertilize it. If it bears fruit , fine.  If not, cut it down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?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D28-D0B8-4D28-9D1D-5BE40F1E4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ESUS HEALS ON THE SABBATH AND JOURNEYS TOWARD JERUSALE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UKE 13:10-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oman with a spirit of infirmity for eighteen years is healed on the Sabba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uler of the synagogue becomes ups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thought she should come to be healed on one of the other d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lling them hypocrites, Jesus gives an example of leading an ox or donkey to water on the Sabbath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’ enemies are put to shame; the multitude rej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12C-E926-4813-9CA2-43D4449EB7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21:30:16Z</dcterms:created>
  <dc:creator>billy lauderdale</dc:creator>
  <dc:description/>
  <dc:language>en-US</dc:language>
  <cp:lastModifiedBy>Frank D Vines</cp:lastModifiedBy>
  <dcterms:modified xsi:type="dcterms:W3CDTF">2007-02-24T05:17:17Z</dcterms:modified>
  <cp:revision>44</cp:revision>
  <dc:subject/>
  <dc:title>SIR, WE WOULD SEE JESUS LIFE OF CHRIST, PART 2</dc:title>
</cp:coreProperties>
</file>